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3A3A-1DCC-4CE4-9230-EC97ADB7206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A7199-62AA-4BA2-8506-FA5311207C5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16223-2A70-4DD3-85D0-7E97B011734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C1D67-CEE2-413D-B552-2C504F50CE9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FA17-90F0-4614-8C49-9A9F40CB343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DE4F3-4AA7-4391-A879-341EA39BF67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5338-136C-40DC-9C06-79CE112CB2C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9F7C6-A1E4-447E-9529-DF935A323B1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58B8-6111-4A38-9E27-E4D902BE583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4A28A-3B56-4D21-9904-EC94A069CCB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BD5C3-7F84-4F3E-B900-C927DB6346F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5788-6BCB-4C34-8FDD-5CD3307EEDB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DF00C-BD5B-43D6-910F-DCAB573E4EE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70E0-0129-456E-A389-9BA43EC8FE8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0266C-4BB6-4E12-B5F2-51FA51A6DA1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A6876-AEE2-48BD-95FB-D17D37914B2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DA506-EECE-439C-941A-05C2FC47846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957E7-326F-4EB1-8661-EBC8AC03D4E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8FEC8-13D3-429F-AE2B-9F6C8CD6524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E0928-E5BF-436F-9578-A81FC1B57D19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C901D-7900-422B-91C2-DC44B6FF125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21DF-4213-47E3-99FA-3FF983A353A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8D417-E75D-4EBC-96CC-19FB4016B05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0FF6-C7B0-4418-A582-80010E98A29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94480-8ECE-4E76-8937-5417C5A61E1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47501-1E5C-4D8B-96AE-426966B03E0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0A8C5-523E-46D0-BEA2-4A1BBB18391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62D8F-11F5-4069-9139-CF49F7732BE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4DF56-9A4A-4103-A42E-673E503ECB5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F3E4-10FA-4CFA-BE14-32E3EDAA3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362840"/>
            <a:ext cx="8226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1E67-91C2-47CB-95C9-AC6EDADC9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A3CD-12C1-40E6-9956-5B585EC68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362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362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362840"/>
            <a:ext cx="26485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69E1-D450-432C-ADC7-5830A4E35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653C-5E39-4C37-8DF2-F27B4F224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751A-D42D-47DB-A838-9C8010225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4E77-12A9-4DD3-906F-C05A6B095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C02B-B192-447F-80DF-6DB3A391C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DC65-5A66-4C76-94E4-135905BBD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DDDF-DF1A-4CF7-8EC0-F1E9AAF00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362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9D56-BA9A-4F27-ABC0-78FDE8592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362840"/>
            <a:ext cx="822636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A37A-E086-41D7-B5A7-015925C14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4720"/>
            <a:ext cx="21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47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99E3E-9A97-45DE-9D00-9B948F6D3143}" type="slidenum">
              <a:rPr b="0" lang="et-EE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and schemaless databases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ome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some 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Value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, Property, Valuetype: URI-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Value: URI or literal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Many representation synta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/X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-trip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urt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xample in Turtle synt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rdf: &lt;http://www.w3.org/1999/02/22-rdf-syntax-ns#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dc: &lt;http://purl.org/dc/elements/1.1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ex: &lt;http://example.org/stuff/1.0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&lt;http://www.w3.org/TR/rdf-syntax-grammar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c:title "RDF/XML Syntax Specification (Revised)" 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editor [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fullname "Dave Beckett"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homePage &lt;http://purl.org/net/dajobe/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]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How to add metadata to a r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 timestamp, changer, row id, status etc etc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orrible answer: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ugly head of re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salary      20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ant to add timestamp and entering person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reification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r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      salary               2000     +   timestamp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subject            personid: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predicate        sal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object             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timestamp      2009-10-20 13: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modifier          personid:345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rom the relational db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row, N cols in the relational d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rst, get N rows of four cols in R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cond, get (N*3)+X rows of four cols after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12*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container blu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 vocabul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ing of three predefined types (together with some associated predefined properti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resource that contains things. The contained thing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members of a container may be resources (including blank nodes) or literals. RDF defines three types of contain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B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S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have no real semantics in RD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 semantics would make calc ha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are fake, pointless tempt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3459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cal id-s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ifferent object id-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URI-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se are f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“blank nodes”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ir semantics/use in the RDF spec is broken: creates unnecessary probl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relational databases have been a standard way to store and query data for dec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lementations are complex and polish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QL is everyw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6200" y="3857760"/>
            <a:ext cx="344808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dicate, subject, valuetype URI-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keep a separate table for unique str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numeric string id-s in pred,subject,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oring value? Can be int, float, string, URI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veral ways, all b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several columns for different (main)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parql query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type: &lt;http://dbpedia.org/class/yago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prop: &lt;http://dbpedia.org/property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LECT ?country_name ?popul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ERE 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?country   a   type:LandlockedCountries 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label   ?country_name ;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p:populationEstimate  ?population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L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?population &gt; 15000000 &amp;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ngMatches(lang(?country_name), "EN"))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7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} ORDER BY DESC(?population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Rule languages for class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e language:  RDFa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:Van    rdfs:subClassOf    ex:MotorVehicl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omplex language: 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ameIndividual:   f:male   g:mascu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unctionalDataProperty:    f:hasW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nverseFunctionalDataProperty:    f:hasW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ReligiousMarriage DisjointWith: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Civil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Marriage Equivalent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ReligiousMarriage OR f:CivilMarri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Universal rule langu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ased on first order logic: sugar and extensions add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ule engine has own language/featu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ttempts to create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K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SO Common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WR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ule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Back to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Most people are not happy with current state of RDF,  OWL or the associated rule langu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languages contain little-motivated complexit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 databases and associated rule systems are relatively slow, when compared to relational bases as they are commonly 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29160" y="2214720"/>
            <a:ext cx="285768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xample suggestio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rop triples for N-tu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ification is b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t metadata directly into the data r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+ schema: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002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roper RDF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 id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name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ncoded in a large numer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typ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uri reference 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etadata on the same 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w id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start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end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stamp of last mod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id (uri reference id  of a web page, database, 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loating suggestions for RDF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ore “ordinary” logic/databas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-tu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conta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striction th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ubject and pred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ust be URI-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“blank nod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ify valu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dd n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 http://www.slideshare.net/PatHayes/rdf-red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Alternatives: existing and s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etwork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bject-relational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ain memory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osql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ocument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XM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RDF, Sparql, semantic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Google Bigtable and MapRedu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11720" y="1736640"/>
            <a:ext cx="3905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-less: obvious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ow with N cols is represented as N rows of three columns, called sometimes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ow/Object id        Column name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ubject                     Predicate                 Ob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milar to key-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be combined 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:Property          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Schema-less is often inevi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 data from numerous sources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ggregate in our own databa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 no control over foreign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understanding of foreign data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data sources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ife is h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ople need schemaless databases. Ye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are s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need „schema“ or rules or something to add more „soft“ structure to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andards/theory is evolving/changing f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obody is happy with what we currently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The only standard (which nobody lov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S): resource description frame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veloped and pushed by W3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rnerstone of the semantic web pro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rge number of systems 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lot of 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57960" y="5000760"/>
            <a:ext cx="15051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triple not really a tri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 Value 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ith valuetype normally being eith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of xml schema data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id: U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0:49:55Z</dcterms:created>
  <dc:creator>tanel</dc:creator>
  <dc:description/>
  <dc:language>en-US</dc:language>
  <cp:lastModifiedBy/>
  <dcterms:modified xsi:type="dcterms:W3CDTF">2015-03-02T13:09:51Z</dcterms:modified>
  <cp:revision>65</cp:revision>
  <dc:subject/>
  <dc:title>RDF and schemaless databases: some notes</dc:title>
</cp:coreProperties>
</file>